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5DE2-2097-4D21-BA5C-F593F0C1C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1104-8F46-4012-AF61-5891370FD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DB86-E788-478A-A6ED-61FBEA039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65A-6F45-4755-A113-325743DE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B71-CBBE-4821-A2F7-0F888B44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DEC-997C-45EB-B8E0-98B9F079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6AD-66D5-41C3-A374-094B4B64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424-55E8-40CF-B7E9-EF7729F5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FC75-98CD-4FA9-BA8F-FDCBE242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0F7-9CDE-42AC-BBC4-C426AC42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B41A-A655-4540-9A09-B004A057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3ED-CF16-45B7-941E-867676FA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8EC-86C5-4681-8E07-A1D3F1E1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E83-C369-4771-BA7C-99C52953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AEB-4D45-468B-B152-235D4508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C32D-6E2C-41B0-9FD9-D92A65AA2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9051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emocionada y content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27" descr=""/>
          <p:cNvPicPr/>
          <p:nvPr/>
        </p:nvPicPr>
        <p:blipFill>
          <a:blip r:embed="rId1"/>
          <a:stretch/>
        </p:blipFill>
        <p:spPr>
          <a:xfrm>
            <a:off x="2736720" y="3529080"/>
            <a:ext cx="4054680" cy="1251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Maninder, si tu puedes comer mis chocolates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 Masiel! ¿Me puede dar un chocolate por favo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aninder, y si yo quiero ir. Te voy manna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 amiga! ¿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3434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ia! Estoy feliz y anciosia para estar contigo hoy! Mi dia es maravilloso hoy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Pero qùe haces, estas lista? Este dia va a estar divertido. Tu eres muy alta so m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Voy a poner botas. Somos como hermanas y te quiero much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7"/>
          <p:cNvSpPr/>
          <p:nvPr/>
        </p:nvSpPr>
        <p:spPr>
          <a:xfrm>
            <a:off x="175248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19051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1981080" y="19051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emocionada y content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27" descr=""/>
          <p:cNvPicPr/>
          <p:nvPr/>
        </p:nvPicPr>
        <p:blipFill>
          <a:blip r:embed="rId1"/>
          <a:stretch/>
        </p:blipFill>
        <p:spPr>
          <a:xfrm>
            <a:off x="2736720" y="3736800"/>
            <a:ext cx="4054680" cy="828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7"/>
          <p:cNvSpPr/>
          <p:nvPr/>
        </p:nvSpPr>
        <p:spPr>
          <a:xfrm>
            <a:off x="2743200" y="327672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también pero yo quiero correr, escribir, usar mi teléfono, aprender com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ocinar, cantar y desayunar porqué tengo mucha hambr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cansada hoy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teléfono es 718-976-9954 y ahora ya no estoy cansada.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2514600" y="5029200"/>
            <a:ext cx="44197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Somos muy buenas amigas no? Estoy escribiendo tu numero. David y Emily están muy contentas porque som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Viejas amigas. Tu eres muy alta también! David y Emily son altos tambié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mos juntas por siempre. Y te extraño. Este perro que compramos te extrañ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2514600" y="5943600"/>
            <a:ext cx="4800600" cy="9144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nemos muchos años juntos por eso te quiero bastante. Tu tienes una buena personalidad. Emily me es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sperando. Sus amigas son simpáticas. Ellas tienen muchas ropa que me gusta. Pero no me aburen, pero quier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cinar.  Y ustedes están aquí! Que felicidad. Voy a usar un libro para leer las ingredientes.  Y usted me va a llamar ahora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Mis amigas me están esperándome para que le cociné algo. Y sus hermanas también puede venir a mi casa pa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Que le haga algo. Pero ellas van a querer a cocinar conmigo. Creo que ellas quieren aprender., cuántos anos ellas tenían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1981080" y="2438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1981080" y="3886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4"/>
          <a:stretch/>
        </p:blipFill>
        <p:spPr>
          <a:xfrm>
            <a:off x="1828800" y="5105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5"/>
          <a:stretch/>
        </p:blipFill>
        <p:spPr>
          <a:xfrm>
            <a:off x="19051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6"/>
          <a:stretch/>
        </p:blipFill>
        <p:spPr>
          <a:xfrm>
            <a:off x="2057400" y="4572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7"/>
          <a:stretch/>
        </p:blipFill>
        <p:spPr>
          <a:xfrm>
            <a:off x="1600200" y="59421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9:51Z</dcterms:modified>
  <cp:revision>116</cp:revision>
  <dc:subject/>
  <dc:title>Profile</dc:title>
</cp:coreProperties>
</file>